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0241-386B-4D43-9B36-78ED9F2FFB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FD20-3A83-4440-B963-4E923BD26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057A-AD7C-41D9-96B2-8564F5E4D5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E5B6-AC75-484D-BBDE-CCEA74E1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5300-D033-45F3-8B96-47F3E469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14DE-C088-4EBC-97ED-B412D38C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ACFE-8BAC-4066-8FFB-0D7E0BA6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6F62-5F90-475D-A1EF-8BB52B79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D53F-7C2E-41BC-B1F4-C0146F84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425E-A7C8-4A77-A93D-A88293A8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7027-DD5B-4A74-8ADA-58134761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59B5-BD52-45A7-9F5B-2FE30A77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4D56-3BD4-4982-88AC-72E1F98B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3F3F-59D5-4229-9F5B-E75954E2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4CD-3635-4CCE-934B-BB37B14F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6E20-C60F-4579-A140-54443B0E8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llenge: Coming to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esson 3-6, p. 4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cember 1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nd the given term in each arithmetic sequence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 =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₁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(n – 1)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erm: 8, 15, 22, 29, 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on difference, d,  is +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rm we are looking for, n, is 1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erm in sequence, a₁, is 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=  8  +  (18 – 1)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=  8  +  (17)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=  8  +  11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=  12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nd the given term in each arithmetic sequence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 =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₁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(n – 1)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.  2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erm: 13, 26, 39, 52, 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on difference, d,  is +1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rm we are looking for, n, is 2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erm in sequence, a₁, is 1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=  13  +  (25 – 1)1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=  13  +  (24)1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=  13  +  3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=  32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nd the given term in each arithmetic sequence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 =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₁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(n – 1)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5.  21st term: 3.5, 7, 10.5, 14, 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on difference, d,  is +3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rm we are looking for, n, is 2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erm in sequence, a₁, is 3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=  3.5  +  (21 – 1)3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=  3.5  +  (20)3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=  3.5  +  7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=  73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nd the given term in each arithmetic sequence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 =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₁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(n – 1)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8.  52nd term: -8, -16, -24, -32, 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on difference, d,  is -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rm we are looking for, n, is 5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erm in sequence, a₁, is -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=  -8  +  (52 – 1)-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=  -8  +  (51)-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=  -8  +  -40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=  -41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nd the equation for the nth term in each arithmetic sequence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= a₁ +  (n – 1)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9.  3, 9, 15, 21, ..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11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ommon difference, d,  is +6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11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6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 term in sequence, a₁, is 3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  =  3  +  (n – 1)6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  =  3  +  6n  -  6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  =  6n  -  3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nd the equation for the nth term in each arithmetic sequence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= a₁ +  (n – 1)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10.  16, 14, 12, 10, ..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11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ommon difference, d,  is -2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11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6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 term in sequence, a₁, is 16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  =  16  +  (n – 1)-2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  =  16  +  (-2n)  +  2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  =  -2n  +  18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1:21:02Z</dcterms:created>
  <dc:creator>New User</dc:creator>
  <dc:description/>
  <dc:language>en-US</dc:language>
  <cp:lastModifiedBy>jeff.bouchard</cp:lastModifiedBy>
  <dcterms:modified xsi:type="dcterms:W3CDTF">2011-12-01T17:25:12Z</dcterms:modified>
  <cp:revision>21</cp:revision>
  <dc:subject/>
  <dc:title>Challenge: Coming to Terms</dc:title>
</cp:coreProperties>
</file>